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CB6B-284A-4D98-B9AE-E665F6360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9E56-728E-4C13-8B48-817D9D6CE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28F9-DDFA-42D8-86D4-0A6963805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DF5D-CF76-4379-924C-412D23523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AC22-0925-4428-A24B-98CB1D580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8584-A279-49D2-90AC-38E1566DF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561D-B03E-4D28-8066-124AE8288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C3F2-08F6-4494-BBAF-74F2BB59A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oose a PPQT with either a grade 7 or a grade 8 curriculum expectation.  Both are based on proportional reasoning focusing on percent. Identify the Big Idea and lesson goal.  Use all of this information to write a consolidaitng ques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075E-02D5-4CF1-B4E9-73DD0A43B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AA51-0669-46FE-A522-1415F5921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17F7-1FDB-497B-B71C-261774A7F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FD2-591B-4DA9-AECA-106844BB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737-3F32-4210-AC32-0A20C394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EE7-776B-4244-8E82-A647560F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50D-AB99-44AD-84EF-DC257E92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88F8-C0ED-40D0-8107-9872FCF7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406B-C878-402B-9123-4AC510C1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5836-2CF6-42DF-825C-D0F1F58E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7F57-6BB7-480E-9354-A8D169CB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F14C-9146-4F57-B3E4-6FFD395F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AC06-FB09-45A0-BE1D-8E6EE570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490E-AED1-46F0-B896-44DE4929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89E-CCC9-41DD-907B-9C27DA1A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2FBE-A94F-4D14-A8D1-38A38B17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1304-ABFD-4D8B-8CB3-DA24A46D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CEA5-11B0-47E9-BA7A-88CF2E33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FCF8-265C-4C36-A76F-2905B469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9BF9-312E-43C9-9963-7B912499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084-9411-4BC4-9173-5AF8C4CE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77C-6128-4C52-8CBF-0C3F2FDC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D34-50ED-401D-AEFE-2EAC3DD4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67F-E847-4F53-A869-EDA67622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B8A-8EAB-42D5-9A94-CEEF06B5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344-721A-4DE2-BE3E-6E3CBE76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90E-9AC9-4DBC-B523-B8D1C221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F4E8-2BCB-42E8-A8A0-FFE95C24AC0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5CBC-2B17-49D3-BFFA-6D05645FFDF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ades 7/8 Breakout Session 2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Professional Learning Log Entr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the Big Idea inform your lesson goal and consolidating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find easy/challenging about the pro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lowchart: Process 3"/>
          <p:cNvSpPr/>
          <p:nvPr/>
        </p:nvSpPr>
        <p:spPr>
          <a:xfrm>
            <a:off x="357120" y="285840"/>
            <a:ext cx="8501040" cy="6143400"/>
          </a:xfrm>
          <a:prstGeom prst="flowChartProcess">
            <a:avLst/>
          </a:prstGeom>
          <a:noFill/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Plenary Focus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: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essment for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eating or adapting tasks to focus on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reakout 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effective consolidat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derstand the link between the Big Ideas, curriculum expectations , lesson goals and consolidat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Which consolidation question would your group choose and why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What makes a good consolidating question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28526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tructional strategy - Anchor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Effective Lesson Goals </a:t>
            </a:r>
            <a:br>
              <a:rPr sz="4400"/>
            </a:br>
            <a:r>
              <a:rPr b="0" lang="en-CA" sz="2200" spc="-1" strike="noStrike">
                <a:solidFill>
                  <a:srgbClr val="0d469b"/>
                </a:solidFill>
                <a:latin typeface="Arial"/>
              </a:rPr>
              <a:t>Marian Small</a:t>
            </a:r>
            <a:endParaRPr b="0" lang="en-US" sz="2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rriculum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es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ually rooted in conceptu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ually filtered through a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th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Posing Powerful Questions Template</a:t>
            </a:r>
            <a:br>
              <a:rPr sz="4000"/>
            </a:b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edugai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714920" y="1643040"/>
            <a:ext cx="3517920" cy="471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338292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1857240" y="17859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6286680" y="15717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 rot="20306400">
            <a:off x="2985120" y="4789440"/>
            <a:ext cx="21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per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ing ques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consolidating question on a strip of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witch questions with another pair and discuss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as the Big Idea and the lesson goal based on the consolidating question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ir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et with your pair to share your discuss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ebrief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d you agree on the Big Idea and lesson goal based on the consolidating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it possible to have more than one Big Idea and/or learning goal for the same consolidating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KPRUser</cp:lastModifiedBy>
  <dcterms:modified xsi:type="dcterms:W3CDTF">2010-08-17T23:27:23Z</dcterms:modified>
  <cp:revision>174</cp:revision>
  <dc:subject/>
  <dc:title>Slide 1</dc:title>
</cp:coreProperties>
</file>